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88188" cy="10223500"/>
</p:presentation>
</file>

<file path=ppt/commentAuthors.xml><?xml version="1.0" encoding="utf-8"?>
<p:cmAuthorLst xmlns:p="http://schemas.openxmlformats.org/presentationml/2006/main">
  <p:cmAuthor id="0" name="kenzo" initials="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5-04-05T08:47:57.825000000" idx="1">
    <p:pos x="10" y="10"/>
    <p:text>DOUGHNUTS: Detector Of Under-Ground Hideous Neutrinos from Universe and from Terrestrial Sources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280F-E0E0-42BB-B602-E999A124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BF54-173B-4790-BDE2-0B66EE1D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071D-8C37-46D8-BAF3-2175E722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0576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484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0576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484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4AC58-CF50-465C-9EBB-C7A3251A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4C92-3CFB-4186-B680-85A7574F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1E83-2B27-47F8-A915-810A09C2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93DA-FEAE-4A02-A0C1-B93DD533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6104-C0A3-4EE7-BA7C-20AE0E74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52280"/>
            <a:ext cx="759600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F9CD4-F8B9-4D6C-8431-AF040DB3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3872B-B72D-4754-82FD-161C3205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97B0-940F-4FAF-9A2C-239D9DA0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18B3-383B-4BB9-ACEC-FBDF9CCD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07460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41444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175356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7720" y="6508440"/>
            <a:ext cx="7402680" cy="304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718040" y="6562800"/>
            <a:ext cx="13352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B39A-2796-4E4C-B2D0-580B10851C37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 rot="16200000">
            <a:off x="-510480" y="5528160"/>
            <a:ext cx="2360520" cy="2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1066680"/>
            <a:ext cx="7619760" cy="0"/>
          </a:xfrm>
          <a:prstGeom prst="line">
            <a:avLst/>
          </a:prstGeom>
          <a:ln w="127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848720" cy="273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verview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f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Hyper-Kamiokande R&amp;D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84000" y="3933720"/>
            <a:ext cx="434340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enzo NAKAMURA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EK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pril 7-9, 2005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NN05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ussois, Savoie, Franc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F3BE-D952-42DB-8D7E-545774D4D9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Mton Water Cherenkov Detector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ncept of a Mton water Cherenkov detector dates back to 1992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. Koshiba: “DOUGHNUTS”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ys. Rep. 220 (1992) 229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ncept of Hyper-Kamiokande was first presented at NNN99 @ SUNY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 recent write-up: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K. N., Int. J. Mod. Phys. A18 (2003) 4053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53350-801A-4CAD-80C8-265E108D1E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at is Hyper-Kamiokande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05920" cy="5842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14130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ton water Cherenkov detector at Kami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3EB4-8D04-4607-81B6-DC1EB1C7F6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y this design has been chosen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1457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ater depth &lt; 5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(If the present 20-inch PMT or similar one will be used.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inear dimensions for light path &lt; 10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timization of 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FID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/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TOTA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ck stabilit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void sharp edges. Spherical shape is the best.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r solution: Tunnel-shaped cavit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ingle Cavity or Twin Cavities?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ingle Cavit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Comic Sans MS"/>
              </a:rPr>
              <a:t>FID</a:t>
            </a: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/M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Comic Sans MS"/>
              </a:rPr>
              <a:t>TOTAL</a:t>
            </a:r>
            <a:r>
              <a:rPr b="0" lang="ja-JP" sz="1700" spc="-1" strike="noStrike" baseline="-25000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is better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Cost is lower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Larger area of stable rock mass needed. 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win Caviti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Two detectors are independent. One detector is alive when the other is calibrated or maintained.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Both cavities should be excavated at the same time. But staging scenario is possible for the later phase of the detector construction.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r solution: Twin caviti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386A-F7BD-4234-81C2-9D128B21BF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ze of the detector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447920"/>
            <a:ext cx="8308800" cy="5725080"/>
            <a:chOff x="380880" y="1447920"/>
            <a:chExt cx="8308800" cy="5725080"/>
          </a:xfrm>
        </p:grpSpPr>
        <p:sp>
          <p:nvSpPr>
            <p:cNvPr id="54" name=""/>
            <p:cNvSpPr/>
            <p:nvPr/>
          </p:nvSpPr>
          <p:spPr>
            <a:xfrm>
              <a:off x="2280960" y="3895920"/>
              <a:ext cx="6408720" cy="32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Fiducial volume: 39mφ×45m ×5 sections ×2 = 0.54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Inner detector volume: 43mφ×49m ×5 sections ×2 = 0.72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detector volume: 1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number of PMTs: 200,000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　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(if 2/m</a:t>
              </a: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GSｺﾞｼｯｸE"/>
                  <a:ea typeface="HGSｺﾞｼｯｸE"/>
                </a:rPr>
                <a:t>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80880" y="1447920"/>
              <a:ext cx="8101080" cy="3447720"/>
              <a:chOff x="380880" y="1447920"/>
              <a:chExt cx="8101080" cy="3447720"/>
            </a:xfrm>
          </p:grpSpPr>
          <p:sp>
            <p:nvSpPr>
              <p:cNvPr id="56" name=""/>
              <p:cNvSpPr/>
              <p:nvPr/>
            </p:nvSpPr>
            <p:spPr>
              <a:xfrm>
                <a:off x="599760" y="1592280"/>
                <a:ext cx="93528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84840" y="1592280"/>
                <a:ext cx="93492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192480" y="1592280"/>
                <a:ext cx="93492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088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85600" y="1447920"/>
                <a:ext cx="75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85600" y="3753000"/>
                <a:ext cx="75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7324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56560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901960" y="1592280"/>
                <a:ext cx="934920" cy="2016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494320" y="1592280"/>
                <a:ext cx="934920" cy="2016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74680" y="159228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74680" y="360864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67040" y="159228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67040" y="360864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59400" y="1592280"/>
                <a:ext cx="212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59400" y="3608640"/>
                <a:ext cx="212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1976040" y="3590640"/>
                <a:ext cx="360360" cy="50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1442520" y="3743280"/>
                <a:ext cx="863640" cy="115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114300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  <a:ea typeface="HGSｺﾞｼｯｸE"/>
              </a:rPr>
              <a:t>Fiducial / To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17C3A-7BB8-405A-B1D9-0A8A892DDB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993080" cy="554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mparison of 3 Generations of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amioka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cleo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c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perimen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　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Kamiokande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uper-Kamiokande       Hyper-Kamiokand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ass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　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3,000 t                    50,000 t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　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,000,000 t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　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(+1,500 t)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hotosensitive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20 %             40 % (SK-I and -III)                   ?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overage                                               20 % (SK-II)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bservation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983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996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?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tarted 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ost (Oku-Yen)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              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100            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500?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*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ja-JP" sz="1800" spc="-1" strike="noStrike" baseline="30000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ku-Yen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1M$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*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arget cost; No realistic estimate yet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EC18-8B14-4C43-9A67-B3D83C0635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Construction Time Line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6840" y="1424160"/>
          <a:ext cx="8810640" cy="4895640"/>
        </p:xfrm>
        <a:graphic>
          <a:graphicData uri="http://schemas.openxmlformats.org/drawingml/2006/table">
            <a:tbl>
              <a:tblPr/>
              <a:tblGrid>
                <a:gridCol w="844560"/>
                <a:gridCol w="530280"/>
                <a:gridCol w="531720"/>
                <a:gridCol w="530280"/>
                <a:gridCol w="531720"/>
                <a:gridCol w="530280"/>
                <a:gridCol w="531720"/>
                <a:gridCol w="532080"/>
                <a:gridCol w="529920"/>
                <a:gridCol w="532080"/>
                <a:gridCol w="529920"/>
                <a:gridCol w="532080"/>
                <a:gridCol w="530280"/>
                <a:gridCol w="531720"/>
                <a:gridCol w="530280"/>
                <a:gridCol w="53172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  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  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9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042920" y="2492280"/>
            <a:ext cx="2737080" cy="289080"/>
          </a:xfrm>
          <a:prstGeom prst="rightArrow">
            <a:avLst>
              <a:gd name="adj1" fmla="val 50000"/>
              <a:gd name="adj2" fmla="val 2367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21000"/>
            <a:ext cx="11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2K-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2852640"/>
            <a:ext cx="576360" cy="122400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076640"/>
            <a:ext cx="5329080" cy="216000"/>
          </a:xfrm>
          <a:prstGeom prst="rightArrow">
            <a:avLst>
              <a:gd name="adj1" fmla="val 50000"/>
              <a:gd name="adj2" fmla="val 6167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4292640"/>
            <a:ext cx="25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K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532720" y="4724280"/>
            <a:ext cx="611280" cy="505080"/>
          </a:xfrm>
          <a:prstGeom prst="rightArrow">
            <a:avLst>
              <a:gd name="adj1" fmla="val 50000"/>
              <a:gd name="adj2" fmla="val 30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5300640"/>
            <a:ext cx="2484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K and T2K-II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EBD0-36D7-4EB6-B5D5-57F97D1D75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2K long baseline neutrino oscillation experiment: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2nd phase, CP violation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f the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Comic Sans MS"/>
              </a:rPr>
              <a:t>13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measurement in the 1st phase gives only an upper limit, the 2nd phase will enhance the reach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ton deca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π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νK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nd other mode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eutrino oscillation measurements with atmospheric neutrinos: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Comic Sans MS"/>
              </a:rPr>
              <a:t>13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, sgn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), sub-dominant osc., CP phase</a:t>
            </a:r>
            <a:r>
              <a:rPr b="0" lang="ja-JP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asurements of low-energy neutrino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upernova neutrino (</a:t>
            </a: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～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x10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neutrinos for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 SN at the center of the galaxy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lic supernova neutrino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olar neutrino measuremen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SzPct val="109786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ossible at the Hyper-K site (600-700 m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verburden) ? Under study.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at can be done with Hyper-K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2997360"/>
            <a:ext cx="42498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Reach:</a:t>
            </a:r>
            <a:r>
              <a:rPr b="1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Comic Sans MS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(e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+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)/B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 10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35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 yr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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Comic Sans MS"/>
                <a:ea typeface="HGPｺﾞｼｯｸE"/>
              </a:rPr>
              <a:t>p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(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K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HGPｺﾞｼｯｸE"/>
              </a:rPr>
              <a:t>+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)/B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10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HGPｺﾞｼｯｸE"/>
              </a:rPr>
              <a:t>34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yr</a:t>
            </a:r>
            <a:r>
              <a:rPr b="0" lang="en-US" sz="1800" spc="-1" strike="noStrike">
                <a:solidFill>
                  <a:srgbClr val="339933"/>
                </a:solidFill>
                <a:latin typeface="HGPｺﾞｼｯｸE"/>
                <a:ea typeface="HGPｺﾞｼｯｸE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2637000"/>
            <a:ext cx="1476360" cy="360360"/>
          </a:xfrm>
          <a:prstGeom prst="wedgeRectCallout">
            <a:avLst>
              <a:gd name="adj1" fmla="val -80861"/>
              <a:gd name="adj2" fmla="val 24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ioza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1484280"/>
            <a:ext cx="1476360" cy="432000"/>
          </a:xfrm>
          <a:prstGeom prst="wedgeRectCallout">
            <a:avLst>
              <a:gd name="adj1" fmla="val -66453"/>
              <a:gd name="adj2" fmla="val -22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obaya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07280" y="3860640"/>
            <a:ext cx="936720" cy="432000"/>
          </a:xfrm>
          <a:prstGeom prst="wedgeRectCallout">
            <a:avLst>
              <a:gd name="adj1" fmla="val -83050"/>
              <a:gd name="adj2" fmla="val -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aj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940360" y="4653000"/>
            <a:ext cx="3203640" cy="1728720"/>
            <a:chOff x="5940360" y="4653000"/>
            <a:chExt cx="3203640" cy="1728720"/>
          </a:xfrm>
        </p:grpSpPr>
        <p:sp>
          <p:nvSpPr>
            <p:cNvPr id="93" name=""/>
            <p:cNvSpPr/>
            <p:nvPr/>
          </p:nvSpPr>
          <p:spPr>
            <a:xfrm>
              <a:off x="5940360" y="4653000"/>
              <a:ext cx="503280" cy="1728720"/>
            </a:xfrm>
            <a:custGeom>
              <a:avLst/>
              <a:gdLst>
                <a:gd name="textAreaLeft" fmla="*/ 0 w 503280"/>
                <a:gd name="textAreaRight" fmla="*/ 181800 w 5032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43640" y="5084640"/>
              <a:ext cx="2700360" cy="865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akahata’s study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ton water Cherenko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tectors in gere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-28800" y="1181160"/>
            <a:ext cx="9172800" cy="6087240"/>
            <a:chOff x="-28800" y="1181160"/>
            <a:chExt cx="9172800" cy="6087240"/>
          </a:xfrm>
        </p:grpSpPr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2060640" y="1181160"/>
              <a:ext cx="50958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882160" y="1360440"/>
              <a:ext cx="3658680" cy="64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200" spc="-1" strike="noStrike" baseline="-25000">
                  <a:solidFill>
                    <a:srgbClr val="ff3300"/>
                  </a:solidFill>
                  <a:latin typeface="Symbol"/>
                  <a:ea typeface="Symbol"/>
                </a:rPr>
                <a:t>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3300"/>
                  </a:solidFill>
                  <a:latin typeface="Comic Sans MS"/>
                </a:rPr>
                <a:t>beam of ~1Ge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62640" y="2486160"/>
              <a:ext cx="15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Kamio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9640" y="2995560"/>
              <a:ext cx="164880" cy="1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51360" y="3033720"/>
              <a:ext cx="165240" cy="1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42480" y="3235320"/>
              <a:ext cx="1175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J-PA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8360" y="5635800"/>
              <a:ext cx="3759120" cy="163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→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Comic Sans MS"/>
                </a:rPr>
                <a:t>disappeara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→ </a:t>
              </a: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ff3300"/>
                  </a:solidFill>
                  <a:latin typeface="Times New Roman"/>
                </a:rPr>
                <a:t>e</a:t>
              </a:r>
              <a:r>
                <a:rPr b="1" lang="en-US" sz="3600" spc="-1" strike="noStrike" baseline="-6000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Comic Sans MS"/>
                </a:rPr>
                <a:t>appear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C measu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280" y="4111560"/>
              <a:ext cx="2057400" cy="119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Comic Sans MS"/>
                </a:rPr>
                <a:t>~</a:t>
              </a:r>
              <a:r>
                <a:rPr b="1" lang="en-US" sz="2400" spc="-1" strike="noStrike">
                  <a:solidFill>
                    <a:srgbClr val="0000cc"/>
                  </a:solidFill>
                  <a:latin typeface="Comic Sans MS"/>
                </a:rPr>
                <a:t>Mt “Hyper Kamiokand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79360" y="3502080"/>
              <a:ext cx="762120" cy="609480"/>
            </a:xfrm>
            <a:prstGeom prst="downArrow">
              <a:avLst>
                <a:gd name="adj1" fmla="val 42083"/>
                <a:gd name="adj2" fmla="val 55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640" y="3645000"/>
              <a:ext cx="3492360" cy="459720"/>
            </a:xfrm>
            <a:prstGeom prst="rect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ffff"/>
                  </a:solidFill>
                  <a:latin typeface="Comic Sans MS"/>
                  <a:ea typeface="ＭＳ Ｐ明朝"/>
                </a:rPr>
                <a:t>0.75</a:t>
              </a:r>
              <a:r>
                <a:rPr b="1" lang="ja-JP" sz="2400" spc="-1" strike="noStrike">
                  <a:solidFill>
                    <a:srgbClr val="00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MW 50 GeV 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04000" y="4149720"/>
              <a:ext cx="884160" cy="439920"/>
            </a:xfrm>
            <a:prstGeom prst="downArrow">
              <a:avLst>
                <a:gd name="adj1" fmla="val 42083"/>
                <a:gd name="adj2" fmla="val 55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0360" y="4581360"/>
              <a:ext cx="28767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MW 50 GeV 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36360" y="5945040"/>
              <a:ext cx="24192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CP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proton dec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280" y="525924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8920" y="556416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d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28800" y="2492280"/>
              <a:ext cx="2908800" cy="825480"/>
            </a:xfrm>
            <a:prstGeom prst="rect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Super-K: 50 k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Water Cherenkov</a:t>
              </a:r>
              <a:r>
                <a:rPr b="1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A52F-BC34-42F5-AAB0-F8EC891016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93080" cy="65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tatus of Hyper-K Planning and R&amp;D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099200" cy="62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te studies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Tochibora mine has been selected.  Overburden 600 – 70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vity design and excavation studies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win cavities preferred; FEA in progress; Geological survey and boring core studies made with existing data;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in situ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measurement of initial rock stress yet to be done; direct exploration boring and geo-survey tunneling at the candidate site needed, etc.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ater tank and PMT support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Conceptual design started, but progress is slow.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herical HPD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5-inch prototype tested, 13-inch prototype test in progress.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listic cost estimation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Yet to be done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udy trade-off between physics capabilities and photocoverage (i.e., cost):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Partly done for p</a:t>
            </a:r>
            <a:r>
              <a:rPr b="0" lang="ja-JP" sz="2000" spc="-1" strike="noStrike">
                <a:solidFill>
                  <a:srgbClr val="0000cc"/>
                </a:solidFill>
                <a:latin typeface="Comic Sans MS"/>
              </a:rPr>
              <a:t>→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</a:t>
            </a:r>
            <a:r>
              <a:rPr b="1" lang="en-US" sz="2000" spc="-1" strike="noStrike" baseline="30000">
                <a:solidFill>
                  <a:srgbClr val="0000cc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, but many more studies needed.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732720" y="1413000"/>
            <a:ext cx="2232000" cy="2303280"/>
            <a:chOff x="6732720" y="1413000"/>
            <a:chExt cx="2232000" cy="2303280"/>
          </a:xfrm>
        </p:grpSpPr>
        <p:sp>
          <p:nvSpPr>
            <p:cNvPr id="115" name=""/>
            <p:cNvSpPr/>
            <p:nvPr/>
          </p:nvSpPr>
          <p:spPr>
            <a:xfrm>
              <a:off x="6732720" y="1413000"/>
              <a:ext cx="360360" cy="230328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59760 h 2303280"/>
                <a:gd name="textAreaBottom" fmla="*/ 224352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14"/>
                  </a:lnTo>
                  <a:cubicBezTo>
                    <a:pt x="10800" y="9614"/>
                    <a:pt x="16200" y="10514"/>
                    <a:pt x="21600" y="10514"/>
                  </a:cubicBezTo>
                  <a:cubicBezTo>
                    <a:pt x="16200" y="10514"/>
                    <a:pt x="10800" y="11414"/>
                    <a:pt x="10800" y="1231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4360" y="2276640"/>
              <a:ext cx="1800360" cy="502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kaga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308720" y="4653000"/>
            <a:ext cx="1513080" cy="503280"/>
          </a:xfrm>
          <a:prstGeom prst="wedgeRectCallout">
            <a:avLst>
              <a:gd name="adj1" fmla="val -81268"/>
              <a:gd name="adj2" fmla="val -18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734080"/>
            <a:ext cx="1513080" cy="503280"/>
          </a:xfrm>
          <a:prstGeom prst="wedgeRectCallout">
            <a:avLst>
              <a:gd name="adj1" fmla="val -76652"/>
              <a:gd name="adj2" fmla="val 310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ioza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40680" y="0"/>
            <a:ext cx="9183960" cy="6858000"/>
            <a:chOff x="-40680" y="0"/>
            <a:chExt cx="9183960" cy="6858000"/>
          </a:xfrm>
        </p:grpSpPr>
        <p:sp>
          <p:nvSpPr>
            <p:cNvPr id="120" name=""/>
            <p:cNvSpPr/>
            <p:nvPr/>
          </p:nvSpPr>
          <p:spPr>
            <a:xfrm>
              <a:off x="0" y="0"/>
              <a:ext cx="443268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-40680" y="0"/>
              <a:ext cx="9183960" cy="6858000"/>
              <a:chOff x="-40680" y="0"/>
              <a:chExt cx="9183960" cy="6858000"/>
            </a:xfrm>
          </p:grpSpPr>
          <p:pic>
            <p:nvPicPr>
              <p:cNvPr id="12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47000" y="0"/>
                <a:ext cx="4796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-40680" y="237960"/>
                <a:ext cx="3506040" cy="1191240"/>
              </a:xfrm>
              <a:prstGeom prst="rect">
                <a:avLst/>
              </a:prstGeom>
              <a:noFill/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cc"/>
                    </a:solidFill>
                    <a:latin typeface="Comic Sans MS"/>
                  </a:rPr>
                  <a:t>Kamioka Min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cc"/>
                    </a:solidFill>
                    <a:latin typeface="Comic Sans MS"/>
                  </a:rPr>
                  <a:t>Geological Ma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161640" y="1905120"/>
                <a:ext cx="5699880" cy="947160"/>
                <a:chOff x="161640" y="1905120"/>
                <a:chExt cx="5699880" cy="9471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61640" y="1905120"/>
                  <a:ext cx="26056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OZUMI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in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2360160" y="1905120"/>
                  <a:ext cx="350136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oval" w="med"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30120" y="3733920"/>
                <a:ext cx="5834880" cy="1523880"/>
                <a:chOff x="330120" y="3733920"/>
                <a:chExt cx="5834880" cy="1523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30120" y="3733920"/>
                  <a:ext cx="29552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TOCHIBORA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in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33800" y="4495680"/>
                  <a:ext cx="3031200" cy="7621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oval" w="med"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03BC-140B-4745-A9C7-C2ADD89EEB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08:58:05Z</dcterms:created>
  <dc:creator>中村健蔵</dc:creator>
  <dc:description/>
  <dc:language>en-US</dc:language>
  <cp:lastModifiedBy>kenzo</cp:lastModifiedBy>
  <cp:lastPrinted>2002-10-09T11:12:41Z</cp:lastPrinted>
  <dcterms:modified xsi:type="dcterms:W3CDTF">2005-04-07T12:59:02Z</dcterms:modified>
  <cp:revision>114</cp:revision>
  <dc:subject/>
  <dc:title>ｽﾗｲﾄﾞ ﾀｲﾄﾙなし</dc:title>
</cp:coreProperties>
</file>